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A9-655F-4030-BD26-91DA4183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812-08DC-4D99-8193-1ED5A621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038-2ECB-4D29-A339-B1A5ADAE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195-B5CD-40E0-95B7-47ADB12E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EC1-6BD8-49D4-BC8D-A4404DAB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634-124D-4307-B94C-78E6843C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5BF-1C5D-4C3C-8642-58249472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9A9-2DC9-4337-97ED-E5FF10E0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849-E4EE-4AD8-A2AC-4295CED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932-87DE-4C23-A51F-8B5E9A0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B39-E67D-45C0-916E-A3503B6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6D0-6B51-4389-8B0C-4BF5101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4c19"/>
            </a:gs>
            <a:gs pos="50000">
              <a:srgbClr val="ff9933"/>
            </a:gs>
            <a:gs pos="100000">
              <a:srgbClr val="7f4c1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F7F-3408-46C9-9DB1-68D51805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4c19"/>
            </a:gs>
            <a:gs pos="50000">
              <a:srgbClr val="ff9933"/>
            </a:gs>
            <a:gs pos="100000">
              <a:srgbClr val="7f4c1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268280"/>
            <a:ext cx="7777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zent vagy, szent vagy, ó Uram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 menny és a föld Rólad ének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ljön minden nép, dicsé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Hódolnak mind a nemzete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4c19"/>
            </a:gs>
            <a:gs pos="50000">
              <a:srgbClr val="ff9933"/>
            </a:gs>
            <a:gs pos="100000">
              <a:srgbClr val="7f4c1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1168560"/>
            <a:ext cx="777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inden térd meghajo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inden nyelv megvallj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Hogy Te éls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Fenn a mennyben új dal szó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4c19"/>
            </a:gs>
            <a:gs pos="50000">
              <a:srgbClr val="ff9933"/>
            </a:gs>
            <a:gs pos="100000">
              <a:srgbClr val="7f4c1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168560"/>
            <a:ext cx="7777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mádjátok Jézus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Övé lett a tró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Halleluja, Övé lett a tró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2:16:02Z</dcterms:created>
  <dc:creator>Balázs</dc:creator>
  <dc:description/>
  <dc:language>en-US</dc:language>
  <cp:lastModifiedBy>Balázs</cp:lastModifiedBy>
  <dcterms:modified xsi:type="dcterms:W3CDTF">2008-01-25T12:16:20Z</dcterms:modified>
  <cp:revision>1</cp:revision>
  <dc:subject/>
  <dc:title>1. dia</dc:title>
</cp:coreProperties>
</file>